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247-8212-42F1-A201-26AA471C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C88-3966-456A-9418-6D378393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C26-819E-4348-9DFB-3C194D7C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F53-5053-48BE-A500-700D5A2A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D51-416D-4C88-8EDC-03B2778A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1FA-E336-467F-82A3-5C1F1B0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FCB-7F75-4CEE-A1ED-C7862104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382-AFDB-4D2C-AAD1-8FEE8857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4BB-1676-4468-B8C4-AFF334A2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19C-B35F-4C3D-A5EC-1DED088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F2D-E16D-4E90-8746-FD63BD12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A44-DD31-4E34-9DE7-F5D7AE0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FCF-3BCE-48B7-96EC-52A9550D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5360" y="3048120"/>
            <a:ext cx="84344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Next Generation  9-1-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9320" y="5587920"/>
            <a:ext cx="1439640" cy="132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71560" y="4165560"/>
            <a:ext cx="6608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roid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27640" y="5587920"/>
            <a:ext cx="4505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nuj Sampathkumar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inhyung Pa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ranay Dalm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we learn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P St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ndroid Development Enviro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Next Ste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ong-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mprove User Interf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mprove Real-Time Text Sta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dditional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utomatically Notifying to friends by using Address Boo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nding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4440" y="301320"/>
            <a:ext cx="96552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Features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al-time Tex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stant Messag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Geo-location (PIDF-L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mage transmi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pplication fl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25520" y="1206360"/>
            <a:ext cx="70628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nstant Messag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ibrary us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P Stack: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JSIP 1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sed SIP MESSAGE method to send instant-messages over UDP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isten for 200 OK from the serv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essage Time-out within 4 seconds if no response from the server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Real Time Messag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ibrary us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SIP St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JSIP 1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User Session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ferenced SipDroid(Android VoIP Client) to implement UserAgen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T140 Protoc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sed SIPc T140Handler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mage Transmi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ses the SIP protocol (MJSIP Stack 1.6) to send image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ustom camera interface to enable one-click sen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voke the Camera to get the image in JPEG forma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the content type of SIP message to "image/jpeg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witch the protocol to TC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nsure that JPEG image is sent only as Binary dat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pplication listens for location update call backs from the Android run-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nce notified, construct a PIDF-LO using the location data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nd this with the first Instant Message or Real-time text by sending a multi-part mess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fter this, keep buffering the location update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nd this data with the next outgoing instant message and remove from buffer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is ensures we do not send redundant PIDF-LO objects to the server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4440" y="301320"/>
            <a:ext cx="96552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pplication Layout: I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27040" y="1432080"/>
            <a:ext cx="3375000" cy="5141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92600" y="1432080"/>
            <a:ext cx="34308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pplication Layout: RT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54320" y="1330200"/>
            <a:ext cx="335448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